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CF4-0714-4646-A43B-D76EE729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1AC-8905-4C0E-AEBF-BE2414F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48B-21BC-4FCA-B58C-9F16AC98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E81-9EB3-40E1-A59C-21D9D195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30D-8452-43B8-9BBD-A01CE5F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CB5D-B9CF-4093-ABAF-CF8E574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526D-E629-4643-A1A8-0CBA55F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548C-8476-4471-A3DC-FDB124D2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045E-9D39-4085-877E-560C3071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08CD-74E5-466F-A35F-992C19F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63CD-BD3C-46DC-99EB-B27CCC2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6E2-5262-4F47-8C30-8C714A6B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CE3F-8FE0-4860-A43A-F8BCB7E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F62-431D-41A5-B0C0-4372389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762D-2014-41FF-88DA-71773C1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B14-2195-4ACE-BCDE-A2F7FE84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FE04-4D53-4E27-BD55-2418E2CE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986-8365-4BD3-AAD7-6372026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C69-DBE4-4FDA-B150-88A6223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37E-A4B1-4452-BE78-A48DB2B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863-899B-4902-832C-FD0B45C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1DB-9C58-4F42-8959-D75470CA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409-5018-4B90-BCA7-583E902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B78-804B-4BB2-93B7-F2B4E73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E343CF3-86A9-4214-9731-5182E106F21D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75E47F9-1244-4662-BE5F-C0143A06B0A1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EXPOSI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4720" y="1768320"/>
          <a:ext cx="9215280" cy="5035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54590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texto expositivo es un texto en el cual se presenta información sobre un determinado tema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 se pretende transmitir una opinión. Si se hace, entonces estamos ante un texto expositivo-argumentativ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domina la función representativa (también llamada “referencial”) del lenguaj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us características son la claridad, la precisión y la objetividad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124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ronológ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igue las pautas de una secuencia narrativa, presentando un proceso a lo largo del tiemp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recuencia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n la presentación de datos, es posible poner primero los aspectos más frecuentes o importantes, para luego pasar a indicar, en orden de frecuencia o importancia, el res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ntet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la exposición va de lo más particular a lo más general; se presenta una serie de datos o posibilidades para luego ofrecer generalizaciones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ste orden se denomina también “inductivo”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1835280"/>
          <a:ext cx="9577440" cy="554472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54472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aus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tos aspectos determinan otros, es decir, de ellos resultan consecu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mejanzas entre dos fenómenos. Puede ser útil para ejemplificar o aclara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traste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la inversa, señalamos las difer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ume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sentar los datos en una lista. Es una secuencia descriptiva.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Funcion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qué sirve una cosa, o una parte de esa 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blema-solu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te un problema dado, podemos señalar las soluciones que se han propuesto o llevado a cabo, sin tomar partid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1547640"/>
          <a:ext cx="9577440" cy="5896080"/>
        </p:xfrm>
        <a:graphic>
          <a:graphicData uri="http://schemas.openxmlformats.org/drawingml/2006/table">
            <a:tbl>
              <a:tblPr/>
              <a:tblGrid>
                <a:gridCol w="4464000"/>
                <a:gridCol w="5113440"/>
              </a:tblGrid>
              <a:tr h="13957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SU GRADO DE DIFICULTAD</a:t>
                      </a:r>
                      <a:r>
                        <a:rPr b="0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5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DIVULGATIV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público no es especializado. El lenguaje es sencillo, sin gran complicació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14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ESPECIALIZAD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úblico con conocimientos pre-vios en la materia. Lenguaje complicado, con tecnicismos propios de la materia tratada, fórmulas especiales, etc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0360" y="1835280"/>
          <a:ext cx="9217080" cy="4968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464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3408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ferenci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televis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elediari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radiofón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60360" y="1835280"/>
          <a:ext cx="9217080" cy="5400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500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SCR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36572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rabajo de investigac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bro de tex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rtículo informativo de un periód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nforme de procesos o resultad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cta de una reun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urrículum vita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visos informativ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claridad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claridad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ividir en párraf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ner subtítulos y emplear sistemas de enumeración (es decir, hacer list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cluir elementos gráficos: mapas, fotos, esquema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mplear un lenguaje adecuado, con oraciones brev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lantear aclaraciones y ejemplifica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tilizar los marcadores del discurso y conectores más conveni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288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precisió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precisión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n palabras monosémicas, es decir, de un solo significado. En textos científicos y técnicos aparecen los “tecnicismos”, palabras propias de una ciencia o técnic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xpresan muchas definiciones, para dejar claros los conceptos. Por ello, encontraremos muchas oraciones copulativas con el verbo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r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, que definirán los conceptos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7280" y="306360"/>
            <a:ext cx="9506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objetividad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7280" y="1908000"/>
          <a:ext cx="9433080" cy="515808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516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presentar objetividad, tengamos en cuenta qu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5292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los textos expositivos no se expresa la opinión del autor, ni sus gustos, sentimientos, o preferencias. Por el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. Hay pocos adjetivos, en general con valor especifica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 el modo indicativo, con valor intemporal (es decir, que vale para todo tiempo y lugar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utiliza la tercera persona, en oraciones de modalidad enunciativ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recurre con frecuencia a oraciones impersonales o de pasiva refleja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onectores y marcadores del discurso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4720" y="1768320"/>
          <a:ext cx="9215280" cy="4819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98496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ganización tex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34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gene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primer lugar, en segundo lugar, en resumen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espaci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el exterior, en el interior, dentro, fuera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tempo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imero, luego, después, mientras, al final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4720" y="1768320"/>
          <a:ext cx="9072720" cy="5073840"/>
        </p:xfrm>
        <a:graphic>
          <a:graphicData uri="http://schemas.openxmlformats.org/drawingml/2006/table">
            <a:tbl>
              <a:tblPr/>
              <a:tblGrid>
                <a:gridCol w="9072720"/>
              </a:tblGrid>
              <a:tr h="78732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2908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adición y enume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emás, y, tambié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aus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que, ya que, dado que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mpa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o, al igual que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di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secuenci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tanto, por ell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traste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ero, en cambio, sin embarg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6013440" indent="-252360" algn="ctr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(Sig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79640" y="1908000"/>
          <a:ext cx="7993080" cy="42357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8768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48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jemplifica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ejemplo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xplicación: 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otras palabras, es decir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inalidad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fin de, para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posi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unque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general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1763640"/>
          <a:ext cx="9433080" cy="546732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560916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n texto expositivo se divide en introducción, desarrollo y cierre o conclusión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roducc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e concreta y presenta el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sarroll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(también llamado "cuerpo de la exposición"): explicación de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74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re o conclus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breve resumen o recapitulación; a veces puede faltar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6000" y="1908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lfabét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s el orden más sencillo, propio de glosarios, 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l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descripción de las diversas partes en que se compone alg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lasificatori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presenta tipos o clases, que reúnen elementos que tienen algo en común, que define la clase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criterio analizante, y el clasificatorio, se pueden incluir en una categoría más general: la estructura "deductiva", llamada así porque pasa de lo más general a lo más particula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11:38:53Z</dcterms:modified>
  <cp:revision>17</cp:revision>
  <dc:subject/>
  <dc:title>EL TEXTO DESCRIPTIVO  </dc:title>
</cp:coreProperties>
</file>